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91789"/>
        <c:axId val="16731750"/>
      </c:barChart>
      <c:catAx>
        <c:axId val="2369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1750"/>
        <c:crosses val="autoZero"/>
        <c:auto val="1"/>
        <c:lblAlgn val="ctr"/>
        <c:lblOffset val="100"/>
        <c:noMultiLvlLbl val="0"/>
      </c:catAx>
      <c:valAx>
        <c:axId val="16731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D55-CCE7-443D-9E4D-85917B0C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75E-96B1-47EE-9CCD-85D77ED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4AA-97FB-4946-86A6-17BDD139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7F0-DFC1-4CBD-8A43-538A0F52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8C4-931E-49EA-8E94-B9DC2B5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C1A-214D-4ABB-9877-AC4FD623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C32-1E24-48A2-BB62-ED6A90C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C74-8B7B-434D-8EDB-5D7BD94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27E-6044-4C67-8CB7-6812FD7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10-303B-4633-8139-A05C7509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322-B991-48ED-A6FD-F6583B9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0B0-0ECB-4400-BFE5-00164A1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5621-96B5-4B0C-B7A9-D1F7B4CE5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