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54895"/>
        <c:axId val="43205429"/>
      </c:barChart>
      <c:catAx>
        <c:axId val="73954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05429"/>
        <c:crosses val="autoZero"/>
        <c:auto val="1"/>
        <c:lblAlgn val="ctr"/>
        <c:lblOffset val="100"/>
        <c:noMultiLvlLbl val="0"/>
      </c:catAx>
      <c:valAx>
        <c:axId val="43205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54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B39-18FE-4653-838C-83B1EE02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429-67E0-4632-8638-5DCA4DEA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052-BED4-4D79-8DC4-F54880CA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78D-6041-442A-B24C-4E4F7576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677-51E5-4459-A5C9-8079304B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3B9-E94F-42E9-B712-0464D30F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40C-33EC-4120-97AD-DEEBFBCD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47E-2181-4BED-BDD4-5504811F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D1C-6993-4CF7-8768-DDDBD0ED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093-9579-4572-9CCF-67E59CCD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DF2-1F00-40C0-AF89-E8DB3492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14D-0365-4A19-97AC-C9FFFA54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FC372-CEDB-4284-83DF-DCE531A36D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