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435571"/>
        <c:axId val="85072911"/>
      </c:barChart>
      <c:catAx>
        <c:axId val="284355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072911"/>
        <c:crosses val="autoZero"/>
        <c:auto val="1"/>
        <c:lblAlgn val="ctr"/>
        <c:lblOffset val="100"/>
        <c:noMultiLvlLbl val="0"/>
      </c:catAx>
      <c:valAx>
        <c:axId val="850729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4355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BA5C-F90C-44F4-B68B-60EB19318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FBBD-7C20-4364-9CA3-05F58437A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46BB-64C6-4001-B2D2-272433ADA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A282-BAFD-41A2-865D-0B254BEFD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D4E5-2C92-4E14-83C7-B8D08C350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01ED-E148-412D-AC68-BFCFC1C29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DD03-0394-4AB4-B89A-EAE7C63FB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B2B1-66ED-4C4A-BF86-C8F15105C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78B5-D71C-48CC-BE40-65ED4B504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076B-634F-4CB2-8655-280E073B4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34ED-034C-49CB-8FD6-F4D17C50D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8B1C-41BD-4CE8-A4DA-69D1E6FFE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9CFAAC-01A4-49E9-8745-A76DD77663C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