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9785"/>
        <c:axId val="50751421"/>
      </c:barChart>
      <c:catAx>
        <c:axId val="97197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51421"/>
        <c:crosses val="autoZero"/>
        <c:auto val="1"/>
        <c:lblAlgn val="ctr"/>
        <c:lblOffset val="100"/>
        <c:noMultiLvlLbl val="0"/>
      </c:catAx>
      <c:valAx>
        <c:axId val="50751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97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F8AF-D260-4921-9CA9-5878A169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66D7-4BFB-4745-88D4-EF815087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9665-D40B-4D08-98A2-18744C23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65C3-78A3-45E1-8F68-9F1AAE28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106-6AC7-4D92-8FF1-D2C78900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76F-C496-46C0-8791-44041D41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8A7-6353-4273-8257-CBC96246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E0F1-955D-4D32-8684-46F472A3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A02D-574D-4AEC-813C-79036396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26A-232B-4E38-9860-8948048F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D8F-9535-4A55-8B53-81E9DE2E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54C-8EE9-46A3-9188-DC90DD86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41113-6701-4CCC-A703-52E97B7875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