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23850"/>
        <c:axId val="4809588"/>
      </c:barChart>
      <c:catAx>
        <c:axId val="76023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9588"/>
        <c:crosses val="autoZero"/>
        <c:auto val="1"/>
        <c:lblAlgn val="ctr"/>
        <c:lblOffset val="100"/>
        <c:noMultiLvlLbl val="0"/>
      </c:catAx>
      <c:valAx>
        <c:axId val="4809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23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4B4-9E76-4173-B6D4-4672E40D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AB5-8723-4D2A-8F33-BFF73A39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D1C-286E-4A57-983C-55CB0BFF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17C-302B-4032-8B4E-131C5EB9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160-0094-42DC-ABD6-709ECF5F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E36-0A86-49B6-A8A1-BA2A7BA6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39D-D525-4144-8C9E-E3BE4998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47E6-C0F0-45D6-A23A-F60881CB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9CD-0169-43CC-9F45-1B346303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3D5-A91F-4E94-8EEE-5627E35A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F63-484F-4986-A885-BD10A851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8EE-1948-4198-BC65-33D3FC5A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3E5A5-AB41-46C2-B13B-59420BAEB9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