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43372"/>
        <c:axId val="31284497"/>
      </c:barChart>
      <c:catAx>
        <c:axId val="252433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4497"/>
        <c:crosses val="autoZero"/>
        <c:auto val="1"/>
        <c:lblAlgn val="ctr"/>
        <c:lblOffset val="100"/>
        <c:noMultiLvlLbl val="0"/>
      </c:catAx>
      <c:valAx>
        <c:axId val="312844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433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075-1401-4D5D-9FFA-E52D9365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422-4962-4D1B-8CE8-7D1041AB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220-8AA0-4080-ADD9-8848CC34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B71-50B0-4A78-A969-DA8BF379C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41E1-4602-447C-B8C3-0AE3ACA4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86A-973B-4B72-BB2F-D7E048D5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CFC3-8746-4F49-BBAC-E238D145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730-1910-4BF7-ADF0-8BDCAC28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0F8F-8F99-404C-AA95-0B03BF89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AF0E-5C0D-4D00-BE56-109CF607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9FF-16A7-464E-B651-13A23ECA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F30-02E8-4EAE-A142-0ACAC410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EBA54D-0381-464C-85BA-36DAA3D642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