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41898"/>
        <c:axId val="78579126"/>
      </c:barChart>
      <c:catAx>
        <c:axId val="93641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79126"/>
        <c:crosses val="autoZero"/>
        <c:auto val="1"/>
        <c:lblAlgn val="ctr"/>
        <c:lblOffset val="100"/>
        <c:noMultiLvlLbl val="0"/>
      </c:catAx>
      <c:valAx>
        <c:axId val="78579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41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728-E469-4A11-A769-AF987D31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E83-C58B-4F60-8A64-6E365A25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78C-5CAF-4036-9C0A-20B2B309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0CB-81AF-476C-BB9F-DF05631E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D99-4EF3-4FB8-B4A6-4B4486F6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AB9-0A45-44BB-AAEB-39AA6A80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9A8-98B7-4F76-9E2D-27F51C82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5D5-F7B4-447E-9FED-298223F7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A88-BCC5-4429-872B-BCF85E10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CA5-BAB0-4FD1-A3B7-90EE2B94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2CB-1047-4352-95EF-4F0B9371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638-F25F-4F96-9893-1047B3D0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AB242-8B6F-4357-AAE7-29B71A822C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