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43804"/>
        <c:axId val="26567015"/>
      </c:barChart>
      <c:catAx>
        <c:axId val="39343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67015"/>
        <c:crosses val="autoZero"/>
        <c:auto val="1"/>
        <c:lblAlgn val="ctr"/>
        <c:lblOffset val="100"/>
        <c:noMultiLvlLbl val="0"/>
      </c:catAx>
      <c:valAx>
        <c:axId val="265670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43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A6F-ACB9-456E-8812-68834A66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6C6-27F2-4B6B-B6D3-6F7B8AE7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25AD-DA51-4222-B940-B5BAEA8F8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3E9D-52D4-487F-AC73-2BE990E3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ACA6-5B26-4D02-84E0-6236DF9E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4C97-4918-4097-A5F3-4F138AA0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7DD5-1169-4DAD-B106-ED3112A11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823C-9EB2-4A22-9C48-7C2A2BDA9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4CB7-D363-49CB-BB85-FAAE6F1C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C661-1190-4888-84BF-3A5C1AFE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46B9-C217-456E-A7A1-AFC84F5B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E4A-5447-450A-83C2-35373834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4DF9C-E265-4913-9AA6-21CF2FE765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