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8547"/>
        <c:axId val="61414916"/>
      </c:barChart>
      <c:catAx>
        <c:axId val="6758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14916"/>
        <c:crosses val="autoZero"/>
        <c:auto val="1"/>
        <c:lblAlgn val="ctr"/>
        <c:lblOffset val="100"/>
        <c:noMultiLvlLbl val="0"/>
      </c:catAx>
      <c:valAx>
        <c:axId val="61414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8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7C7-3801-4310-8E29-21FF76EC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0BA-93E8-4E9B-9806-862685F2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358-3F80-42C7-98C0-DF37E16B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54E-90B2-4A13-873D-32C328EA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983-50DD-484B-AFB1-E5086D3D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E72-FE24-42FA-8E73-6789B74E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492-E9F1-4BE1-A09B-06C8B791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ABC-C15E-4AF6-A87F-CDB042E6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710-ED49-4681-9E0F-25C02A94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917-C172-464D-995B-147EC588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269-8E8B-4558-AAAA-DB3711CC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0BE-DE9E-44B4-BA46-413935F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40027-25AF-4849-B840-4049AAA28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