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28839"/>
        <c:axId val="52506315"/>
      </c:barChart>
      <c:catAx>
        <c:axId val="93428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06315"/>
        <c:crosses val="autoZero"/>
        <c:auto val="1"/>
        <c:lblAlgn val="ctr"/>
        <c:lblOffset val="100"/>
        <c:noMultiLvlLbl val="0"/>
      </c:catAx>
      <c:valAx>
        <c:axId val="525063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28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43E-22C4-49FF-A2ED-01A968CC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C9E-F994-4148-8448-36369232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E01-FAA0-4412-9E1C-B667BA8E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C89-3C8F-413D-94A1-E4546C6B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8D4-EE99-4A54-9F6F-471F6642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4F1-A56E-41A3-809B-6E788F6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9E5-7425-488A-AF2E-302B990A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DF1-C380-433A-8909-4A9107B3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9564-314C-4C4D-A879-F1FC5195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0B2-99EF-460B-AFCC-12515B9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036-8685-4A5B-B143-E3DBE74D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703-3EC6-4003-BD15-C7541CB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52C02-D2C9-4737-870E-94775F0474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