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4438"/>
        <c:axId val="84491471"/>
      </c:barChart>
      <c:catAx>
        <c:axId val="89844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91471"/>
        <c:crosses val="autoZero"/>
        <c:auto val="1"/>
        <c:lblAlgn val="ctr"/>
        <c:lblOffset val="100"/>
        <c:noMultiLvlLbl val="0"/>
      </c:catAx>
      <c:valAx>
        <c:axId val="844914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44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E27-270E-422A-859B-0DC4805E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53EF-53B0-4D98-88DC-1330081B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185C-C078-4594-8904-5B8F35CD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7CB2-3B6A-47A0-8BF2-B1D64328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C60A-2386-4653-8F84-770D2045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12D5-7B92-40E2-9C69-7C0B172F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4935-869A-49FF-A320-C752ED8D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E236-9355-4C2B-85A4-188DEC23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30AC-FF0A-40F1-80D4-F6B7DAB3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DDBA-393F-45C8-8612-438D4907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445B-CDEF-47E9-94FE-D90D10E1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37D-9FE9-4F47-BD00-B7F49620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BFBF6-2F83-4D4C-8552-86BE90E447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