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59908"/>
        <c:axId val="92360846"/>
      </c:barChart>
      <c:catAx>
        <c:axId val="35659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60846"/>
        <c:crosses val="autoZero"/>
        <c:auto val="1"/>
        <c:lblAlgn val="ctr"/>
        <c:lblOffset val="100"/>
        <c:noMultiLvlLbl val="0"/>
      </c:catAx>
      <c:valAx>
        <c:axId val="92360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59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AF9-BC6E-4656-AFF0-75B2E382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56A-C86C-4BC2-A123-367CFA50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DB0-FB69-4F2F-AD1C-FEA99818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DE0-D60B-4F11-9D81-E7E6E680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9C5-5F65-4E2D-8FB1-652F0CF3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E9D-EB96-4BE3-AA42-769AC6B4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665-77C6-4866-8E8D-09F2184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FFE-70BB-476F-9803-5CCA551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6B7-7303-4459-84EC-7EDA72B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A94-4296-40E5-9A31-905D63C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4E2-B041-41B4-B278-9B67A2F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C18-8C68-460E-B351-A417913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4307-7509-4F19-9506-C8AFF2E937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