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58690"/>
        <c:axId val="21643689"/>
      </c:barChart>
      <c:catAx>
        <c:axId val="40358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3689"/>
        <c:crosses val="autoZero"/>
        <c:auto val="1"/>
        <c:lblAlgn val="ctr"/>
        <c:lblOffset val="100"/>
        <c:noMultiLvlLbl val="0"/>
      </c:catAx>
      <c:valAx>
        <c:axId val="21643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58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2CB-EA6C-443D-A8A3-F54BC3E2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E6C-7237-4034-B4C8-E958E1A1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5BE-7CF2-42C7-A05B-12092241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00E-E5CE-40DC-A30E-5E385964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A4E-6B33-4A9F-A1B2-49E00489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A75-4E68-4DCE-8315-1379159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FFE-78D0-4280-9F10-74D447E2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3A7-C2C3-4997-BEFD-B21A4A6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90A-1DA7-40FF-98A1-83F54994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425-4CE8-479F-AE12-1497FDB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4FC-5323-47CD-9C43-2E32F51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AA3-6702-4D1F-BBD6-003454A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D6117-290D-4082-B377-9452DAAE3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