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02819"/>
        <c:axId val="24755396"/>
      </c:barChart>
      <c:catAx>
        <c:axId val="98802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55396"/>
        <c:crosses val="autoZero"/>
        <c:auto val="1"/>
        <c:lblAlgn val="ctr"/>
        <c:lblOffset val="100"/>
        <c:noMultiLvlLbl val="0"/>
      </c:catAx>
      <c:valAx>
        <c:axId val="24755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02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394-8A42-404F-9DA3-AA4F7AFD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D6B-35A5-4267-964F-205E6562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571-ED0D-4FA3-AC87-9D48E6A9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AAF-835B-48F0-8251-4C0AE081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B20-7472-4A51-B8AB-03E10D5D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B8F-B0B7-46BD-8E7E-A4AE8DA3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D3D-4546-4D5A-80A4-611D204D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141-8F80-4CCD-9320-8D35C3F9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023-32F5-4F71-A74A-29A7B35C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90D-490B-4712-8994-4F3C04D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9A7-0E17-4AC5-822D-B713BE7F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877-1495-4979-A031-1E717B13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9598D-1C7C-4EBD-BBBF-821AEF4880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