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49556"/>
        <c:axId val="68250763"/>
      </c:barChart>
      <c:catAx>
        <c:axId val="92449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50763"/>
        <c:crosses val="autoZero"/>
        <c:auto val="1"/>
        <c:lblAlgn val="ctr"/>
        <c:lblOffset val="100"/>
        <c:noMultiLvlLbl val="0"/>
      </c:catAx>
      <c:valAx>
        <c:axId val="68250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49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635-0C58-4883-8D60-CAA3FF89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58C-455D-4B0A-959C-7C0553A5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0D5-98FA-4B73-9F32-55CE570B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144-AF1F-4CF5-96EB-A51CD12A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AF1-9D81-4629-9440-07297531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CC0-3C0C-4AF0-80FC-28A4B6DA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53B-75B1-4E7E-960C-A36C37A1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F6E-1A06-4AEE-8199-B1DDFC05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6A5-FC28-4BFE-AEE7-32C5E46B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B2C-968C-4FB9-96AC-4C36881A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8E0-D6C7-4D47-B280-675B753A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2EF-F454-4552-97AA-DA15A24E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3B391-7019-4FF6-9E08-BF32BA5E6D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