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74404"/>
        <c:axId val="1692442"/>
      </c:barChart>
      <c:catAx>
        <c:axId val="42474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2442"/>
        <c:crosses val="autoZero"/>
        <c:auto val="1"/>
        <c:lblAlgn val="ctr"/>
        <c:lblOffset val="100"/>
        <c:noMultiLvlLbl val="0"/>
      </c:catAx>
      <c:valAx>
        <c:axId val="1692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74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095-F253-4CB3-8522-BFEAC670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72E-7721-4C92-9588-95B94E68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2B1-167D-4F02-A3B7-2ACD7C49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07B-84DB-4E92-A3FC-30AD9DDE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C52-1E65-4D48-B6C9-20309262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F9B-364F-469E-9862-5C4245F5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AE8-6198-4C65-9F38-285F684A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C2D-9E32-4F05-9AF5-086F98C2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413-CD92-4D8C-A601-E1A1BAD7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789-432E-49AF-8019-372B06D1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EC5-2225-44AF-AF0F-5EE80E8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0F6-389D-4E7E-8F74-5C02F52D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24AA2-D54F-4EE7-8250-5BDF60224A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