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48861"/>
        <c:axId val="9148429"/>
      </c:barChart>
      <c:catAx>
        <c:axId val="34548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8429"/>
        <c:crosses val="autoZero"/>
        <c:auto val="1"/>
        <c:lblAlgn val="ctr"/>
        <c:lblOffset val="100"/>
        <c:noMultiLvlLbl val="0"/>
      </c:catAx>
      <c:valAx>
        <c:axId val="9148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8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8EF-6363-4239-8A52-5A61AB2A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B8C-E9DB-440E-B52A-53F10AE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317-1612-454D-99D1-B3B5E732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299-A5AC-42D0-BC0D-520DDABF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88D-7EC5-4A3A-A493-D3214604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F81-9D23-442D-86F5-BA974607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255-BA1B-4A78-BF65-3AE625BE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837-22A8-4B80-AD0D-16ACCB03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F7E-0F09-4CB4-BE2F-4E867CAE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445-29FD-4AC9-801A-1FA1119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879-489D-41DA-B6A7-5A4812E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0D0-2A5E-4554-BE83-FB7CA97E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0817-CAB5-4BAF-9ACF-224EE81B0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