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34953"/>
        <c:axId val="30408206"/>
      </c:barChart>
      <c:catAx>
        <c:axId val="83634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08206"/>
        <c:crosses val="autoZero"/>
        <c:auto val="1"/>
        <c:lblAlgn val="ctr"/>
        <c:lblOffset val="100"/>
        <c:noMultiLvlLbl val="0"/>
      </c:catAx>
      <c:valAx>
        <c:axId val="30408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34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F24-BACF-4508-94AA-35F60603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B3B-6884-4837-B74D-E3E1527E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8AC-E78E-4F5C-B632-225FADC7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7D9-B1C8-4035-8560-92BA4D6F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290-5334-4B24-A4C2-94D0CC76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325-D413-4C4C-89D5-4AC8E446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73D-4200-493B-B488-9AB00B55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BD0-ED05-4CE3-B7EE-4734E99E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D40-C326-4C40-B041-6DD76874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8D8-E9EE-4F97-82FC-6F155585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3D1-AB84-4BE5-A810-265956EA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8F1-4554-4C15-82A7-949009A6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1DA73-4B8B-407B-9FCE-A5733ADD92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