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3080"/>
        <c:axId val="60431790"/>
      </c:barChart>
      <c:catAx>
        <c:axId val="3823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31790"/>
        <c:crosses val="autoZero"/>
        <c:auto val="1"/>
        <c:lblAlgn val="ctr"/>
        <c:lblOffset val="100"/>
        <c:noMultiLvlLbl val="0"/>
      </c:catAx>
      <c:valAx>
        <c:axId val="60431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3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D7F-126E-4571-BEA8-4FFF1EE4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85E-E051-4475-867C-731030E8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AC5-D469-4E15-A725-4276BE19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12F-AE88-447C-9171-1E305386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9F8-4B0A-4D23-8067-2A3F800D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8B8-9E74-45BA-B0D5-8959F25D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31B-2FF4-4DF1-928B-D52F5A1B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422-7E47-41E4-8BF1-B2068D49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C3B-560D-4CA0-9FD6-8616D9A6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77A-3C0B-42F9-8F4E-CE33B6CD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0F2-71FB-4881-A8A9-FF61DDFD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07B-F5B7-48B5-96A8-CEE18AAE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2736B-B469-4342-A0AE-798FC9E24F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