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08209"/>
        <c:axId val="30859900"/>
      </c:barChart>
      <c:catAx>
        <c:axId val="45508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59900"/>
        <c:crosses val="autoZero"/>
        <c:auto val="1"/>
        <c:lblAlgn val="ctr"/>
        <c:lblOffset val="100"/>
        <c:noMultiLvlLbl val="0"/>
      </c:catAx>
      <c:valAx>
        <c:axId val="30859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08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DC4-A130-4176-B18D-3B055C96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DBA-3325-4842-A754-23BC3855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920-6CB9-4046-8282-E2F2CC6E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D38-F79C-44C7-AD47-30BCB902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99A-1348-483E-BA8D-40F0F83A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074-E263-4DFF-AE48-56B7AEA6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5FC-661A-41EA-B979-C40AC5DB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1E3D-A4E0-4E90-8CE1-144AF6AB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DE7-8465-417C-BC2B-BD9B20A2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70B-A75E-42E0-AD48-F844FDE2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8D8-91D2-4D5E-939F-44210DF6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9AA-56A5-47CB-A878-6E7CA3D9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FDE20-DEE4-4BFC-8B06-EA141124C1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