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7176946"/>
        <c:axId val="75584858"/>
      </c:barChart>
      <c:catAx>
        <c:axId val="7717694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584858"/>
        <c:crosses val="autoZero"/>
        <c:auto val="1"/>
        <c:lblAlgn val="ctr"/>
        <c:lblOffset val="100"/>
        <c:noMultiLvlLbl val="0"/>
      </c:catAx>
      <c:valAx>
        <c:axId val="7558485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717694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38A7E-2802-45B3-BA91-5AADE2AE7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045BB-FBE8-450B-BF45-882D2A91F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3B43C-4972-4CA0-A83D-EF023E7C2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4C6A4-7FE1-413E-9190-D2BA9CE35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26476-8308-4451-84AF-ABE67AC15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81B9F-C48B-41CD-BD05-364D8505C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EA00D-51A0-4CE8-A819-BB9F06616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409D6-56C3-4260-8F39-239CDE1FF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1A1CA-9739-4962-A28C-116DAE8AA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94584-66A1-4330-8E2E-85D72FEAF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4375C-E2A7-48B0-8263-EBAE04890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B77C2-5CC6-4526-8E6F-E375B7057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2F129F-1BA1-46CC-BD70-2BE169F9671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