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018131"/>
        <c:axId val="24041040"/>
      </c:barChart>
      <c:catAx>
        <c:axId val="5501813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041040"/>
        <c:crosses val="autoZero"/>
        <c:auto val="1"/>
        <c:lblAlgn val="ctr"/>
        <c:lblOffset val="100"/>
        <c:noMultiLvlLbl val="0"/>
      </c:catAx>
      <c:valAx>
        <c:axId val="2404104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01813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1B84-43F9-4812-96B5-4F7903D9B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3BDD-E8D5-409F-BF94-C4953F23B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B14A-1DB4-4CD1-826B-649754B4B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1896-EE2C-464E-B41A-18F822305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6E68-916F-495B-AF3A-632083838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D45A-EC04-4EF7-8D6A-5CC4F5CB0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2678-A613-47C4-853C-9ED4B885D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74D4-EF38-4396-8D58-19F416E07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E9DD-DB84-4426-9193-E10D9F242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A814-4331-45AE-97C4-976C94C4B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7B9B-F845-4D8D-AC81-0CE30C71B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5A3B-733A-4198-900C-E8660A548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8071D5-DC97-40D0-ACED-028B2AB67DA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