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81069"/>
        <c:axId val="64044551"/>
      </c:barChart>
      <c:catAx>
        <c:axId val="77281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44551"/>
        <c:crosses val="autoZero"/>
        <c:auto val="1"/>
        <c:lblAlgn val="ctr"/>
        <c:lblOffset val="100"/>
        <c:noMultiLvlLbl val="0"/>
      </c:catAx>
      <c:valAx>
        <c:axId val="64044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81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F5B-A567-4E9A-ADCC-8FD5B156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0A5-35D9-4BAB-BF74-AD3A3905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B9D-EF86-439B-AF3E-41AEE327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93F-7250-464B-AE14-163E23D3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EAA-1FBF-4966-986A-A6DFF435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5A9-1943-489C-8572-039D747E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181-482D-4BF4-AA61-EA124E04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D31-14A0-4DC5-950E-BCBEEEBE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420-2BCF-4B6B-AAE9-0F11769C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90E-79D6-4429-A728-BB03DD77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330-626F-4A1A-8B57-9AEB2F0F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414-2ACC-4640-BDEB-BDCA580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B0D7D-EBE6-4DF8-AB43-1C2DE60195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