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36957"/>
        <c:axId val="18309625"/>
      </c:barChart>
      <c:catAx>
        <c:axId val="26736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09625"/>
        <c:crosses val="autoZero"/>
        <c:auto val="1"/>
        <c:lblAlgn val="ctr"/>
        <c:lblOffset val="100"/>
        <c:noMultiLvlLbl val="0"/>
      </c:catAx>
      <c:valAx>
        <c:axId val="183096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36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B36-E6AB-4DB1-B191-BFEC9044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1D2A-BF6D-411B-9BBB-4C86C55D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616-F05A-47B5-ABA5-48D5C503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E0F-5B62-43E7-AC0A-B100B13E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8F5-5550-4AEE-9A6B-0652544D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674-2B47-4C7C-B98E-8C34B7B9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0D13-6801-44BA-85BB-36681A69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312C-4340-448A-A9CE-3C23270E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F95-4A32-4E02-81CE-58F09C53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AEFB-F7A6-4DB9-8946-EF9C687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A451-1C0D-4F90-8CA5-0A27A2E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3BBB-4C47-413A-983B-6EB5EDF4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68A4A-9DD5-4C85-B408-C47238F70A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