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46001"/>
        <c:axId val="76242041"/>
      </c:barChart>
      <c:catAx>
        <c:axId val="42460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42041"/>
        <c:crosses val="autoZero"/>
        <c:auto val="1"/>
        <c:lblAlgn val="ctr"/>
        <c:lblOffset val="100"/>
        <c:noMultiLvlLbl val="0"/>
      </c:catAx>
      <c:valAx>
        <c:axId val="762420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60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968D-2398-43A9-957F-24043EBCC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94C7-179E-4484-9166-883EC225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3686-E6A5-46CC-B71C-94B9AF36C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BBD7-1271-4185-8D3B-E637F5D55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F1C7-CC5D-488D-A4B9-E3DD0A92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3AC1-9F4E-498A-A980-34D40FAC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037F-8FB3-4695-87E4-8BEC5CF1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EFBE-8114-49D2-A4FD-4FBADC3E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C572-F870-45F4-9230-167D721A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5D4D-0925-4047-AB0B-E1BDF0CE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C787-1A4C-4ED3-AB0D-32A10521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8EA6-E30C-4D6C-935F-C3D8C3C9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2E157-93E1-45D9-8DB8-C3846F37AA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