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3876"/>
        <c:axId val="31244409"/>
      </c:barChart>
      <c:catAx>
        <c:axId val="5223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44409"/>
        <c:crosses val="autoZero"/>
        <c:auto val="1"/>
        <c:lblAlgn val="ctr"/>
        <c:lblOffset val="100"/>
        <c:noMultiLvlLbl val="0"/>
      </c:catAx>
      <c:valAx>
        <c:axId val="31244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3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557-6661-4A5D-A9FE-3BC9A69C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B94-FDC1-4D2C-B3CC-5E4E6932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670-6051-4E46-8684-EF80A042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494-28EC-480D-B3EC-C677ACD4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63F-C3F2-4354-8DCE-6034F0F1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5AA-281E-4F55-B033-D13A227B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701-7BEC-4BF6-8E25-3225A073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EE0-5055-4271-ABE6-551A2710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9F8-80C1-4751-8EEA-57A655CD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962-DDC0-49F5-8D08-6954F93B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AEA-F932-45D7-9786-103F9B21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13E-2172-4339-802B-BB4DC746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C0A51-DD0D-4994-B059-1D8CB74539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