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35357"/>
        <c:axId val="53803366"/>
      </c:barChart>
      <c:catAx>
        <c:axId val="108353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03366"/>
        <c:crosses val="autoZero"/>
        <c:auto val="1"/>
        <c:lblAlgn val="ctr"/>
        <c:lblOffset val="100"/>
        <c:noMultiLvlLbl val="0"/>
      </c:catAx>
      <c:valAx>
        <c:axId val="538033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353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6DAB-B29D-41F4-A2D3-5411FAEA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E8DE-F9F9-4D16-8CBC-4725F4F0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11E-2F88-4F5F-949F-1C90DC0C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B360-2B69-43BF-A36B-298F2FFC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1A14-C4DD-4226-BD44-9CB3CCF5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088-6F08-4344-88F5-9977A89A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740B-74BD-4699-BB78-EC194227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809A-A467-4F44-A698-AA032022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4A04-C861-492F-8117-DD8DED78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B5A6-3F49-49A4-AE47-AA8F794B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7C2-C2FD-4901-B3A3-535E88F3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8C20-6337-4D0E-BA80-858824D3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59109-17C6-4C5F-ABCC-AF9D9C2421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