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63179"/>
        <c:axId val="84736168"/>
      </c:barChart>
      <c:catAx>
        <c:axId val="88063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36168"/>
        <c:crosses val="autoZero"/>
        <c:auto val="1"/>
        <c:lblAlgn val="ctr"/>
        <c:lblOffset val="100"/>
        <c:noMultiLvlLbl val="0"/>
      </c:catAx>
      <c:valAx>
        <c:axId val="84736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63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57C-4D55-4347-9F15-77EC48B0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F7E-97FD-4EEA-B8FC-AAE12B3E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F3A-1A52-4C2D-989F-0DE6BE63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987-FC4C-418C-ADAD-2513EB8D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B8E-2EE7-4255-8035-F50A7181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AD7-CE03-46F3-8E56-2E2D6B2E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984-44DF-4A5F-BC6F-6D11B3CA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22A-6637-4B39-BB4F-14349E89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56B-D37A-4882-B1B4-E9C4678F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CBC-7C17-459B-A74B-82E38F47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61F-D714-423C-8FC3-E1BAB7D5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FCA-A56A-4E13-83CA-EEB7859E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3EEEA-AFD2-4508-96EB-B61DC14E6E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