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2216123"/>
        <c:axId val="65922231"/>
      </c:barChart>
      <c:catAx>
        <c:axId val="6221612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922231"/>
        <c:crosses val="autoZero"/>
        <c:auto val="1"/>
        <c:lblAlgn val="ctr"/>
        <c:lblOffset val="100"/>
        <c:noMultiLvlLbl val="0"/>
      </c:catAx>
      <c:valAx>
        <c:axId val="6592223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21612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36796-B6AB-413C-8924-28BCC52F0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10C5F-58F2-4182-8097-061614FBE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6548D-6A63-4C66-904A-4C007C6C5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C74D3-EEC4-4E3E-9F2B-0F236A99B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8ADFE-152F-4A78-95FD-3DA288BA8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545EB-E631-45BA-AE29-FE2DF9ED4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20B46-7A00-486C-B8F4-5E2545573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B0BDB-210B-4A3F-A0BE-D93FD9F67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C1DEE-C91D-4DB5-945C-ABDB64637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ACB72-145C-4AD1-AAB8-45EB9795E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ADFCF-432E-4950-8C37-C1FFEFC7C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BC4E2-6580-4A74-94F0-74E97B3C8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88F6C6-DEE9-42F5-BE63-82FD3E0A3F2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