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48316"/>
        <c:axId val="82898205"/>
      </c:barChart>
      <c:catAx>
        <c:axId val="47448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98205"/>
        <c:crosses val="autoZero"/>
        <c:auto val="1"/>
        <c:lblAlgn val="ctr"/>
        <c:lblOffset val="100"/>
        <c:noMultiLvlLbl val="0"/>
      </c:catAx>
      <c:valAx>
        <c:axId val="82898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48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8B8-B102-4FF6-8D5E-3A056484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6F8-CDF6-44A6-A8EE-E59B6F90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145-58BA-4C1A-9275-2D645F49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1BB-CE98-4D52-A611-C27DE6C7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EF4-8A23-4C36-958D-F50358EA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1B6-59BC-448A-8869-BADBFF29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0FC-4880-4027-BA20-F6BF1F26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C04-3758-47E7-BBDC-FB07D545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1AF-4983-48DC-A807-201AA0D2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AF8-4033-482C-9B0F-2E638989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19A-37B1-47D3-BB66-6883CEED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6D5-0DA6-49B8-9A6F-29B24307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830F9-520D-4D07-A28E-EC2F267A3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