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92406"/>
        <c:axId val="23596123"/>
      </c:barChart>
      <c:catAx>
        <c:axId val="25092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96123"/>
        <c:crosses val="autoZero"/>
        <c:auto val="1"/>
        <c:lblAlgn val="ctr"/>
        <c:lblOffset val="100"/>
        <c:noMultiLvlLbl val="0"/>
      </c:catAx>
      <c:valAx>
        <c:axId val="23596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92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A9A-FC9F-457D-9AF7-50461C99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281-3509-45AF-A101-1287A964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3DC4-B238-42EE-BC26-B95F1D57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27B-F9EA-4F01-A2AC-C51A6246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973-31CC-4504-9FF6-00ED6ED0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1D3-3795-4F3C-8EF8-C39C5773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976-BFA8-4EE5-82B6-B1755286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E10-618B-4857-8722-12B08857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5BA-E8E4-4C1C-A134-0AE73807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468-6069-42D5-AD91-B02E80A2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46C-6356-440B-8B5B-1B93F26F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5D7-13B5-4335-8777-A58E9F95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92157-04A5-4C99-B8EF-760382CE28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