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73669"/>
        <c:axId val="79666772"/>
      </c:barChart>
      <c:catAx>
        <c:axId val="18473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66772"/>
        <c:crosses val="autoZero"/>
        <c:auto val="1"/>
        <c:lblAlgn val="ctr"/>
        <c:lblOffset val="100"/>
        <c:noMultiLvlLbl val="0"/>
      </c:catAx>
      <c:valAx>
        <c:axId val="79666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3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E70-AF0E-4AAE-86D3-60387F6F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ECB-4AEB-4405-BA36-4CEA1D85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FBD-A59D-4F1B-AC11-CE603D98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8E2-18A6-45CE-957B-ED6A848D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26D-13FF-4830-9EF5-F48FE9D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CAE-A969-4F8A-A5AB-15A11A5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B5B-8EF3-468E-BAAC-F63A038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A6D-EBB2-4C7B-B249-779F49E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51A-8AA7-422F-B733-49456D0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7E3-8B15-4FAB-92A8-30450A6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F3-01F9-4F1D-A83F-A89B5A2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9EE-F995-4271-8B78-D8C03618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74B7C-0ECF-441C-86A6-CEF074DEB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