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609527"/>
        <c:axId val="21727834"/>
      </c:barChart>
      <c:catAx>
        <c:axId val="34609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27834"/>
        <c:crosses val="autoZero"/>
        <c:auto val="1"/>
        <c:lblAlgn val="ctr"/>
        <c:lblOffset val="100"/>
        <c:noMultiLvlLbl val="0"/>
      </c:catAx>
      <c:valAx>
        <c:axId val="21727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09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FB7-D28A-4A8D-8890-104F4B48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3C0-F49F-4BA1-8049-258814C4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77D-F367-4A63-9760-EDA12907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1A4-7FA2-4911-A64B-2981A8F7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BDA3-689F-4014-BA79-3F6FAE8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7E5-C6DA-44D0-BDFC-BFB40C3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CE1-995E-49C7-B21A-6E3E066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D79-2341-4FDE-AF7B-F1EC31D7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2CF-D1CC-4F92-8A78-DC2AE43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89F-25AC-4AB8-B65A-C0CA600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FA6-392C-4AB2-A099-3374D7B0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39A-9C2F-49D1-93F8-C2AD885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39BD2-5894-467B-BCB5-355C5C1268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