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18646"/>
        <c:axId val="67241679"/>
      </c:barChart>
      <c:catAx>
        <c:axId val="26218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41679"/>
        <c:crosses val="autoZero"/>
        <c:auto val="1"/>
        <c:lblAlgn val="ctr"/>
        <c:lblOffset val="100"/>
        <c:noMultiLvlLbl val="0"/>
      </c:catAx>
      <c:valAx>
        <c:axId val="67241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18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E3A-D08A-4104-A7C2-A9F14F80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DAE-CBAC-4D83-AA65-63D5DC2E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E0F-E999-4AEC-B035-C5D7A069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AB3-5BC3-41A0-8EAF-A9603AC4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5E4-C70E-42C3-9BC6-5EEF2CEB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1B6-770E-4503-98EC-F6CE15F8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112-CFC0-4733-9205-D0F233E6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147-7003-411B-8307-AEE7AE7A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70E-9E1F-4F1C-ACF0-F3575D9B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4F7-871F-4DA0-912F-8BEB1833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3EC-9DC4-42C9-800C-D1BCCADE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F79-4DA8-49D8-9FCE-B7FE1A2D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D4750-5677-4A89-991A-DEE95D0B02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