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9885"/>
        <c:axId val="3177209"/>
      </c:barChart>
      <c:catAx>
        <c:axId val="2139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209"/>
        <c:crosses val="autoZero"/>
        <c:auto val="1"/>
        <c:lblAlgn val="ctr"/>
        <c:lblOffset val="100"/>
        <c:noMultiLvlLbl val="0"/>
      </c:catAx>
      <c:valAx>
        <c:axId val="3177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910-FF44-4553-831A-19A86B1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56C-9BD8-4706-B6A3-E5CF944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D70-A568-4A6B-AC38-6467C0EA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6E3-CD56-47E2-B42C-25334F47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1E2-95D4-4493-829F-F29C123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330-8B4A-4E72-A47B-3EBE02D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0AD-B155-4F86-BF04-251CD07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111-48A9-4816-8C00-E3BFBE0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92E-CA01-44EC-A602-C41F3E97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6E5-670D-492B-AF9D-6C3E82A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64B-A97D-435D-A3F8-AE6F988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1DE-0661-4296-9190-2920C4E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0B0D2-4A80-465B-B991-5F4552190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