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40813"/>
        <c:axId val="38888105"/>
      </c:barChart>
      <c:catAx>
        <c:axId val="80540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88105"/>
        <c:crosses val="autoZero"/>
        <c:auto val="1"/>
        <c:lblAlgn val="ctr"/>
        <c:lblOffset val="100"/>
        <c:noMultiLvlLbl val="0"/>
      </c:catAx>
      <c:valAx>
        <c:axId val="38888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40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046-F36A-43F2-84DD-348F99F2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EAF-8B2F-42CF-ABE1-B0551289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3AA-09A7-467F-B52C-1BCC9C50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D98-571A-4666-9EBB-E07D84AE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B32-7A7A-4E79-8923-11F6B0FB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061-F97E-4301-A200-70AEB96F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897-31FC-4807-B8E7-52DF87F6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94E-03CF-4E5E-863E-ABBF15F2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C7C-C542-476A-9583-CB4997B8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AE0-2AE2-40E9-8F60-1B9C205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05F-BE93-43D3-98FC-24570237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7A8-70B9-4B41-85C0-84320B1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FAF9B-729E-4CE3-820D-7FB0FD3DC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