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08377"/>
        <c:axId val="60365357"/>
      </c:barChart>
      <c:catAx>
        <c:axId val="85808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65357"/>
        <c:crosses val="autoZero"/>
        <c:auto val="1"/>
        <c:lblAlgn val="ctr"/>
        <c:lblOffset val="100"/>
        <c:noMultiLvlLbl val="0"/>
      </c:catAx>
      <c:valAx>
        <c:axId val="60365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08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FFE-B6EC-4FA8-982E-C6B2E0B2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AAA-8983-4013-A9F2-AD082B3C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D5D-C2BA-4440-AA2D-93F5C74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77E-0132-4535-BE55-B58ABDDA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053-29C5-48D6-804B-551C972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E47-3372-4A54-84CB-B281D0C3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60C-3641-488B-BFCB-294B284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234-3646-4619-9132-E9987F5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4D9-75C3-4C28-8B1F-5AD7FE2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9D9-207D-4151-A17F-A10A7A4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7BC-1265-47C3-BD34-00CF1A8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2DC-5534-411F-8AF1-A556F48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43B06-F73D-428F-A5DF-63FCC7C8F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