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0394"/>
        <c:axId val="35224439"/>
      </c:barChart>
      <c:catAx>
        <c:axId val="5100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24439"/>
        <c:crosses val="autoZero"/>
        <c:auto val="1"/>
        <c:lblAlgn val="ctr"/>
        <c:lblOffset val="100"/>
        <c:noMultiLvlLbl val="0"/>
      </c:catAx>
      <c:valAx>
        <c:axId val="35224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0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ABD-BE15-45CF-8D50-9E319C21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15E-78A1-4763-BDE9-8600E9CB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0F6-EE83-4E57-AD32-24DD6789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716-15FA-48F4-AFE6-4AE7B357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90F-A9F0-4B3C-A1D2-35DCB83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94-93A0-4000-A699-38CA6A3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ABB-6EF1-4E9B-A2D0-5B13108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545-3D2A-471B-B4B0-EA17BF0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FB1-A2DC-477A-801C-976CEBB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CC4-DA41-41BA-8C2E-46D853E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A65-858B-48C7-8E9F-0EADB733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2AE-872A-45DF-A7FB-806B8CB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6A58F-05E1-4CF0-A547-22CFE1299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