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882"/>
        <c:axId val="26922051"/>
      </c:barChart>
      <c:catAx>
        <c:axId val="6708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922051"/>
        <c:crosses val="autoZero"/>
        <c:auto val="1"/>
        <c:lblAlgn val="ctr"/>
        <c:lblOffset val="100"/>
        <c:noMultiLvlLbl val="0"/>
      </c:catAx>
      <c:valAx>
        <c:axId val="26922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8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99B-5D52-49FF-AE71-8C733ADD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D6F3-E34C-48F5-946B-BC20D98C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926-632D-4305-89FE-C0CD7F7A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D104-A2D9-43D7-A0AD-E9DCDB29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238-1343-4058-B0BE-7C3A304B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92EF-7968-4867-B6F8-706E68DB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0149-7BDF-41AC-8AA2-7C74C6AE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1617-0A1A-4593-B45F-2ED85F8E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D27-8AA5-4C9D-B454-FA054FA5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06AD-E8B1-4953-BEFD-D4D861A5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23E-9076-46F5-BCB2-C0F39B10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AE7-A6B3-4CAE-903A-C17181B0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7796C-87C7-4373-857E-17E3EE4161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