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999545"/>
        <c:axId val="74984400"/>
      </c:barChart>
      <c:catAx>
        <c:axId val="549995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84400"/>
        <c:crosses val="autoZero"/>
        <c:auto val="1"/>
        <c:lblAlgn val="ctr"/>
        <c:lblOffset val="100"/>
        <c:noMultiLvlLbl val="0"/>
      </c:catAx>
      <c:valAx>
        <c:axId val="749844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995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F2A0-5C77-4CF2-94CF-97372F90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6900-30E4-4541-95D0-D150E5C0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47CA-7255-404D-87BE-092C1803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F0CD-7A44-4196-B2E8-F15DB773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71ED-6E67-45C0-A141-A5616287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2A0F-1186-4232-B02D-B7A14E83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1FB8-E45B-459F-99E0-643DEA90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4714-BB7D-4048-A556-12655FDE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6B7A-42E4-4D1F-A4F7-B3AAD0D5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1701-17A8-46FE-AAAE-5672835F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5822-6AB0-4C4F-994D-A9C41669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AEC6-BBDB-453A-8C44-5DE019BD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1A645-4FC7-404F-853A-58DEFD1831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