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6316177"/>
        <c:axId val="68051487"/>
      </c:barChart>
      <c:catAx>
        <c:axId val="3631617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051487"/>
        <c:crosses val="autoZero"/>
        <c:auto val="1"/>
        <c:lblAlgn val="ctr"/>
        <c:lblOffset val="100"/>
        <c:noMultiLvlLbl val="0"/>
      </c:catAx>
      <c:valAx>
        <c:axId val="6805148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31617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BF66-01A1-4F7D-BF8F-A19D17BFA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4111-F29C-4783-9F6D-D08C37958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3D8D-B814-4601-B41D-F76E49C95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3424-9441-4742-8D61-F4746A582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59E4-76D1-478B-8A14-0D39F9CD8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2625-03F2-4C54-A887-2E411937C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08A0-25D1-4669-97B1-0A65E94CB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6ED5-9598-40E8-9BF7-D6A638E2D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4A82-4A2B-4C22-B384-5C159D04A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5FA3-DB04-4B94-B5A7-7CFC65891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A95F-5342-4CD3-842E-D2AB6A3D9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A798-6B4A-4AF2-A82A-B47120C33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835E19-24DA-40CF-97E8-3220DAAF209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