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30857"/>
        <c:axId val="49161503"/>
      </c:barChart>
      <c:catAx>
        <c:axId val="618308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61503"/>
        <c:crosses val="autoZero"/>
        <c:auto val="1"/>
        <c:lblAlgn val="ctr"/>
        <c:lblOffset val="100"/>
        <c:noMultiLvlLbl val="0"/>
      </c:catAx>
      <c:valAx>
        <c:axId val="49161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308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C285-E3FB-472C-872B-95A2751A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1A7-933E-4DF2-BF95-63DBB7EF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5B9C-53E6-4DD8-A420-7C1482F9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1E9D-30F8-4226-9425-E8177E38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8254-E9AE-47BB-8342-0CB04B77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E5F-369A-4068-870C-63F7950A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F2BD-BF17-4AB4-8B13-25FF4875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CD53-0E63-41FB-8CFE-E1BDD743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F62-3934-4FB5-8664-83B64EE1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5E4F-4789-4BA5-9DF4-057FDCCF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E8C-D392-4FD4-BB49-6D5547AF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901-8F3B-4121-BF7D-CBEDD54C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BB29D-4AA5-469D-B5E2-3963B6B36E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