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21546"/>
        <c:axId val="86419132"/>
      </c:barChart>
      <c:catAx>
        <c:axId val="55521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19132"/>
        <c:crosses val="autoZero"/>
        <c:auto val="1"/>
        <c:lblAlgn val="ctr"/>
        <c:lblOffset val="100"/>
        <c:noMultiLvlLbl val="0"/>
      </c:catAx>
      <c:valAx>
        <c:axId val="86419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21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509-4DE7-4E50-9F86-2FC97AFC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EEF-9242-476D-998E-5C81406E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A99-8923-49B4-8F9E-220CA244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CF7-88AC-4FC3-AE2A-75D3FA14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636-4F60-494A-A093-209FBF22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267-3B30-431C-8624-8CC82240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4E7-A5C6-4B17-8810-AC7E6E18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0B5-5EF0-40F6-B3F0-2781FCB9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F08-7B5F-4422-B88F-1B7D3D0E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ABC-76AF-4117-B3F3-4E62234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D75-AA47-4C5A-81D4-493FC175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B22-1E53-4891-9268-6D3CCE50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476FF-6993-4A57-BF68-FA366C424F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