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18686"/>
        <c:axId val="44832277"/>
      </c:barChart>
      <c:catAx>
        <c:axId val="912186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32277"/>
        <c:crosses val="autoZero"/>
        <c:auto val="1"/>
        <c:lblAlgn val="ctr"/>
        <c:lblOffset val="100"/>
        <c:noMultiLvlLbl val="0"/>
      </c:catAx>
      <c:valAx>
        <c:axId val="448322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186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D91F-3AD7-4704-8BD3-9E1A4BE0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40F-34FF-495B-B643-07329BAD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582D-08DD-47C1-9154-E17D83B8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CB4A-CC45-44CC-929E-78A56844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68AD-CF37-49AA-A364-2FF41389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131A-A182-4161-B8A9-03B40E40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CC5-C254-4EF5-B0B2-4222B9FE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3E77-0A31-4297-AE26-B7EF86CE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93AF-AECB-47C3-BC53-31BBEBD3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90F0-DF9C-4D89-9FEA-175507A0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468-9945-4972-AADA-ACB150AA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78B3-FF33-494C-9451-6D4A5B56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F53FC-FDC4-4712-8DAD-976B3DADB3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