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1265"/>
        <c:axId val="91843323"/>
      </c:barChart>
      <c:catAx>
        <c:axId val="6821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3323"/>
        <c:crosses val="autoZero"/>
        <c:auto val="1"/>
        <c:lblAlgn val="ctr"/>
        <c:lblOffset val="100"/>
        <c:noMultiLvlLbl val="0"/>
      </c:catAx>
      <c:valAx>
        <c:axId val="91843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1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A19-A138-4790-9ABE-91DC19FE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EBC-D245-4913-A959-CDF1B5EE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479-161A-444F-9E60-31C3D251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34D-4BCB-48C1-99B1-F8A0B040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0B0-4894-4E40-B867-D88BA6CE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6DC-7389-4DF2-A79B-0375139D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9CC-48CD-4E34-8FB7-802C766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500-06DB-4A56-A39B-3082C49D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729-3A43-44A4-B7FF-15A24C58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EED-6244-40C5-8314-21D4823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F37-FB13-4056-88A7-FBD60BF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48F-638A-4580-84FC-B7057CE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801A4-AAE1-4D9D-89C1-6629AB85D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