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894026"/>
        <c:axId val="43796369"/>
      </c:barChart>
      <c:catAx>
        <c:axId val="218940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96369"/>
        <c:crosses val="autoZero"/>
        <c:auto val="1"/>
        <c:lblAlgn val="ctr"/>
        <c:lblOffset val="100"/>
        <c:noMultiLvlLbl val="0"/>
      </c:catAx>
      <c:valAx>
        <c:axId val="43796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940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D19B-B2A0-4A96-BFC9-5E060D74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86EC-4ADA-47F6-8BA8-F402DA02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AE1-99AA-4FE8-88AB-D290E7F0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8078-A5C2-459B-A99B-70CC23A4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E257-0A4A-4077-ABD9-38E42ED6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A6E-3CBA-4D50-8628-F6BE573F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4C3B-DB33-473B-8A43-AF862C79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293-CED4-4CF4-AEBB-B7D9022C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2269-AE22-495E-894A-BC727C9C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33C-DF2A-4542-A27B-F4F332F3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C1D-2666-47BD-928B-A45BFEF1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C3C2-7A61-4386-98B9-2F2A189B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0E559-A068-4CE6-85DC-FCF2A1FE82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