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53674"/>
        <c:axId val="33089156"/>
      </c:barChart>
      <c:catAx>
        <c:axId val="70053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9156"/>
        <c:crosses val="autoZero"/>
        <c:auto val="1"/>
        <c:lblAlgn val="ctr"/>
        <c:lblOffset val="100"/>
        <c:noMultiLvlLbl val="0"/>
      </c:catAx>
      <c:valAx>
        <c:axId val="33089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53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F60-80FB-4851-BEDE-9313D4E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F63-E038-434D-8369-9152659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AD2-C4EE-4EAF-A89F-129AAF35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7C2-8CE1-4A93-BED9-3D09FB52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1CF-8CBC-43D8-8894-1DA10405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FB9-B3CE-4236-9B2E-76265886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E58-08A6-43C0-9FC7-48009D3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8B7-1EE7-464C-A38F-F344B69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24D-3701-457B-9F2B-39AF78A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651-191D-4E6B-9317-F2D80282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334-7627-4C31-8223-7532910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4E1-5BCB-42D5-ABC2-E27CD5E5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5C632-FC56-42F3-A02E-84B8A2DA1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