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152555"/>
        <c:axId val="55466989"/>
      </c:barChart>
      <c:catAx>
        <c:axId val="751525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466989"/>
        <c:crosses val="autoZero"/>
        <c:auto val="1"/>
        <c:lblAlgn val="ctr"/>
        <c:lblOffset val="100"/>
        <c:noMultiLvlLbl val="0"/>
      </c:catAx>
      <c:valAx>
        <c:axId val="554669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1525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1AA4-20C9-407E-B056-E13A5198C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54C9-A82B-4A81-A27B-28E3AE34A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E349-3F16-44A2-A17A-FAD5DB6C2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E5F1-901A-4FFA-BCA6-FBFB9A55D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47F1-AE20-4C30-9AA5-6DF8B935E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DD69-E10F-4318-AFAA-16694DBFF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0CBF-0782-471F-8FA2-E7AADC377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943C-9F0F-494E-8215-3EB468A3A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ADD8-608F-4400-BB21-889C2BC1C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8FBC-727C-45DC-84E2-B337E03D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4FC4-E407-4AA5-AB86-5B384898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D56B-9597-460E-A868-89198F23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08493D-9E21-4750-B7A7-64E0AE04063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