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404327"/>
        <c:axId val="64355655"/>
      </c:barChart>
      <c:catAx>
        <c:axId val="524043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355655"/>
        <c:crosses val="autoZero"/>
        <c:auto val="1"/>
        <c:lblAlgn val="ctr"/>
        <c:lblOffset val="100"/>
        <c:noMultiLvlLbl val="0"/>
      </c:catAx>
      <c:valAx>
        <c:axId val="643556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043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AD78-F1CB-4508-BF07-B443D7B9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B3D9-F880-4E5D-A931-87F3C0E3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02C8-6EBF-4A1A-A576-64870F8C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9CB0-96D8-4340-A5CF-82EF6533E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B967-3059-487A-B813-67421CD1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D1A4-AD22-42FE-B1B0-0D82C8CD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CB75-308C-4EE8-93CF-AA9B6012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2067-F79B-41A2-9764-B685CCEF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BEBE-B27E-4696-868A-53BFAD4F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ED64-DDCD-40DD-8789-9E163F4D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88FC-6302-49E0-9442-A4898A63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86DA-E2CE-4C0B-8D24-620B65A3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40D0F-8457-4F83-A8DE-C376BE89BE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