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23469"/>
        <c:axId val="3308552"/>
      </c:barChart>
      <c:catAx>
        <c:axId val="63223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8552"/>
        <c:crosses val="autoZero"/>
        <c:auto val="1"/>
        <c:lblAlgn val="ctr"/>
        <c:lblOffset val="100"/>
        <c:noMultiLvlLbl val="0"/>
      </c:catAx>
      <c:valAx>
        <c:axId val="33085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23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B615-B79C-4689-A78D-432F6DC9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E1A-4990-4F82-9ADF-C6C4031E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0CCA-46EB-4677-B9F5-2A8CEB18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C2F1-84F7-45AE-9451-AC3D11A6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36D7-7675-4B23-B2D5-55118CAF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A9D6-3CA5-4DC0-9BD6-2EC245E8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C589-9708-434A-B26C-6DD834FC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41C1-7808-4E35-8E39-5E4C4B75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EB60-E2DE-4987-BC31-B0E19C9D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9661-44B3-40A2-8905-32F46027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5DAA-F2A4-46C9-9818-35690F50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4B82-A29E-4CFD-BBFE-C31558C8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17B41-F556-4FBB-B5BB-6A595A5550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